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4089-B65D-4ECD-9948-09E109CB4F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3A0D-0601-4192-AE43-D92773C227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A52A-2B21-40E1-B98C-15C6758652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4758-729E-48AE-8C5E-CF748E1FA3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D52C-5AC2-4918-8F0F-90A9E29DA4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466C-D921-4D7D-9E2A-721271D647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CE3D-86F3-4FE6-A6FF-F870B71C36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FB04-C48A-4714-B0D6-ADEB0E694C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9098-A4EB-42A0-8C2C-6448DD969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4CB3-8730-4BC8-B3AE-9FED3CFFB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4E581E-6A1D-4037-88EA-C833867085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4112D-8E65-426A-A3AB-50649D097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02F564-4C66-4C95-93AD-76A39D226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0E5258-FDF1-42EB-80B4-3C07C7764F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6C167F-A712-4431-B626-AA2B7A412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E5C4E-025C-4E1F-AC2B-16CE0FABA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CE25B-F888-478A-83FD-A00B5180D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F91EF3-0F96-4E5E-90E6-163ED7848D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E33D13-ADC8-426C-8006-FAB8DFF14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7BF44-6E35-463A-AAA4-83FACBEB91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A49BB-2302-4E3A-82F2-EE6C4FA45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FC444A-67A7-496D-A0AB-193A90C42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9EFA-3BE0-4C1E-82EF-0A5159BBB9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a:off x="609480" y="12952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brary.dmu.ac.uk/Skills/Study/"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22F4-8B67-4607-A446-CCF4C08D57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earch Methods</a:t>
            </a:r>
            <a:endParaRPr b="0"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ll Ista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artment of Computer Scie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 Montfort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6E15-ABF0-439B-A605-05310F5E28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8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 gains in the performance of 3D graphics hardware and rendering systems have not been matched by a corresponding improve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n our knowledge of how to interact with the virtual environments we create; therefore there is a need to examine these further if we are to improve the overall quality of our interactive 3D systems. </a:t>
            </a:r>
            <a:r>
              <a:rPr b="0" lang="en-GB" sz="2000" spc="-1" strike="noStrike">
                <a:solidFill>
                  <a:srgbClr val="b2b2b2"/>
                </a:solidFill>
                <a:latin typeface="Times New Roman"/>
              </a:rPr>
              <a:t>This paper examines some of the interaction techniques which have been developed for object manipulation, navigation and application control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
        <p:nvSpPr>
          <p:cNvPr id="88" name="Text Box 4"/>
          <p:cNvSpPr/>
          <p:nvPr/>
        </p:nvSpPr>
        <p:spPr>
          <a:xfrm>
            <a:off x="4022640" y="6060960"/>
            <a:ext cx="2759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4952880" y="21337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ationale</a:t>
            </a:r>
            <a:endParaRPr b="0" lang="en-US" sz="3600" spc="-1" strike="noStrike">
              <a:solidFill>
                <a:srgbClr val="000000"/>
              </a:solidFill>
              <a:latin typeface="Times New Roman"/>
            </a:endParaRPr>
          </a:p>
        </p:txBody>
      </p:sp>
      <p:sp>
        <p:nvSpPr>
          <p:cNvPr id="90" name="Line 7"/>
          <p:cNvSpPr/>
          <p:nvPr/>
        </p:nvSpPr>
        <p:spPr>
          <a:xfrm flipH="1">
            <a:off x="4190760" y="2590920"/>
            <a:ext cx="609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DEB4-54D5-4152-BB26-0CC139315E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9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Recent gains in the performance of 3D graphics hardware and rendering systems have not been matched by a corresponding improvement in our knowledge of how to interact with the virtual environments we create; therefore there is a need to examine these further if we are to improve the overall quality of our interactive 3D systems.</a:t>
            </a:r>
            <a:r>
              <a:rPr b="0" lang="en-GB" sz="2000" spc="-1" strike="noStrike">
                <a:solidFill>
                  <a:srgbClr val="000000"/>
                </a:solidFill>
                <a:latin typeface="Times New Roman"/>
              </a:rPr>
              <a:t> This paper examines some of the interaction techniques which have been developed </a:t>
            </a:r>
            <a:r>
              <a:rPr b="0" lang="en-GB" sz="2000" spc="-1" strike="noStrike">
                <a:solidFill>
                  <a:srgbClr val="b2b2b2"/>
                </a:solidFill>
                <a:latin typeface="Times New Roman"/>
              </a:rPr>
              <a:t>for object manipulation, navigation and application control</a:t>
            </a:r>
            <a:r>
              <a:rPr b="0" lang="en-GB" sz="2000" spc="-1" strike="noStrike">
                <a:solidFill>
                  <a:srgbClr val="000000"/>
                </a:solidFill>
                <a:latin typeface="Times New Roman"/>
              </a:rPr>
              <a:t>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
        <p:nvSpPr>
          <p:cNvPr id="95" name="Text Box 4"/>
          <p:cNvSpPr/>
          <p:nvPr/>
        </p:nvSpPr>
        <p:spPr>
          <a:xfrm>
            <a:off x="4498200" y="2133720"/>
            <a:ext cx="31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Scope of review</a:t>
            </a:r>
            <a:endParaRPr b="0" lang="en-US" sz="3600" spc="-1" strike="noStrike">
              <a:solidFill>
                <a:srgbClr val="000000"/>
              </a:solidFill>
              <a:latin typeface="Times New Roman"/>
            </a:endParaRPr>
          </a:p>
        </p:txBody>
      </p:sp>
      <p:sp>
        <p:nvSpPr>
          <p:cNvPr id="96" name="Line 6"/>
          <p:cNvSpPr/>
          <p:nvPr/>
        </p:nvSpPr>
        <p:spPr>
          <a:xfrm flipH="1">
            <a:off x="5714640" y="2819520"/>
            <a:ext cx="30492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33AA-E4A8-4731-815F-EC6EB8A582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10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Recent gains in the performance of 3D graphics hardware and rendering systems have not been matched by a corresponding improvement in our knowledge of how to interact with the virtual environments we create; therefore there is a need to examine these further if we are to improve the overall quality of our interactive 3D systems.</a:t>
            </a:r>
            <a:r>
              <a:rPr b="0" lang="en-GB" sz="2000" spc="-1" strike="noStrike">
                <a:solidFill>
                  <a:srgbClr val="000000"/>
                </a:solidFill>
                <a:latin typeface="Times New Roman"/>
              </a:rPr>
              <a:t> </a:t>
            </a:r>
            <a:r>
              <a:rPr b="0" lang="en-GB" sz="2000" spc="-1" strike="noStrike">
                <a:solidFill>
                  <a:srgbClr val="b2b2b2"/>
                </a:solidFill>
                <a:latin typeface="Times New Roman"/>
              </a:rPr>
              <a:t>This paper examines some of the interaction techniques which have been developed</a:t>
            </a:r>
            <a:r>
              <a:rPr b="0" lang="en-GB" sz="2000" spc="-1" strike="noStrike">
                <a:solidFill>
                  <a:srgbClr val="000000"/>
                </a:solidFill>
                <a:latin typeface="Times New Roman"/>
              </a:rPr>
              <a:t> for object manipulation, navigation and application control in 3D virtual environments. </a:t>
            </a:r>
            <a:r>
              <a:rPr b="0" lang="en-GB" sz="2000" spc="-1" strike="noStrike">
                <a:solidFill>
                  <a:srgbClr val="b2b2b2"/>
                </a:solidFill>
                <a:latin typeface="Times New Roman"/>
              </a:rPr>
              <a:t>The use of both mouse-based techniques and 3D input devices is considered, along with the role of feedback and some aspects of tools and widget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Text Box 4"/>
          <p:cNvSpPr/>
          <p:nvPr/>
        </p:nvSpPr>
        <p:spPr>
          <a:xfrm>
            <a:off x="2819520" y="220968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Indication of taxonom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Line 5"/>
          <p:cNvSpPr/>
          <p:nvPr/>
        </p:nvSpPr>
        <p:spPr>
          <a:xfrm flipH="1">
            <a:off x="3962520" y="2895480"/>
            <a:ext cx="838080" cy="1676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3539-9F5C-4EEB-862B-1E1C28072D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urces of information</a:t>
            </a:r>
            <a:endParaRPr b="0" lang="en-US" sz="3600" spc="-1" strike="noStrike">
              <a:solidFill>
                <a:srgbClr val="000000"/>
              </a:solidFill>
              <a:latin typeface="Arial"/>
            </a:endParaRPr>
          </a:p>
        </p:txBody>
      </p:sp>
      <p:sp>
        <p:nvSpPr>
          <p:cNvPr id="10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ientific journ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e proceedings (refereed and unrefere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gazines, newspap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ant to differentiate between reported investigations and reported opin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s of any investigation contain some element of informed opinion or jud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s of information must be cited appropriat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E22F-6887-42C8-B3A3-C460B95943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ject Academic Objectives</a:t>
            </a:r>
            <a:endParaRPr b="0" lang="en-US" sz="3600" spc="-1" strike="noStrike">
              <a:solidFill>
                <a:srgbClr val="000000"/>
              </a:solidFill>
              <a:latin typeface="Arial"/>
            </a:endParaRPr>
          </a:p>
        </p:txBody>
      </p:sp>
      <p:sp>
        <p:nvSpPr>
          <p:cNvPr id="11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Review methods of usability evaluation appropriate to the evaluation of internet-based groupware systems for use by students undertaking a course by distance learn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s review of methods described in the literature, using the original sources (not just someone else’s revie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cations of problems/needs associated with evaluation of groupware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arisons and contrasts between methods in light of identified needs of groupware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Your conclusions about which method(s) to use and h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4CF2-28A3-445B-BE99-A301293879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to do it…</a:t>
            </a:r>
            <a:endParaRPr b="0" lang="en-US" sz="3600" spc="-1" strike="noStrike">
              <a:solidFill>
                <a:srgbClr val="000000"/>
              </a:solidFill>
              <a:latin typeface="Arial"/>
            </a:endParaRPr>
          </a:p>
        </p:txBody>
      </p:sp>
      <p:sp>
        <p:nvSpPr>
          <p:cNvPr id="114"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ect and read current papers and reviews of a fie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list of references cited in these, get copies of those which appear relev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 to classify the papers you collect in one or several ways to form the basis of a tax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dentify authors who are prominent and check what else they have published (WWW useful h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 contents of recent relevant journals in libr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cribe to mailing lists for coming conferences and look at contributo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arch on-line bibliographic archives (e.g bids.ac.u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394E-1E10-4F68-854D-F8602EEEBE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structively criticising research..</a:t>
            </a:r>
            <a:endParaRPr b="0" lang="en-US" sz="3600" spc="-1" strike="noStrike">
              <a:solidFill>
                <a:srgbClr val="000000"/>
              </a:solidFill>
              <a:latin typeface="Arial"/>
            </a:endParaRPr>
          </a:p>
        </p:txBody>
      </p:sp>
      <p:sp>
        <p:nvSpPr>
          <p:cNvPr id="118"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ers have a vested interest in making a piece of work appear significant and worthy of publ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may not be as forthcoming about the limitations of the work as about the benefi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ults should be reported in sufficient detail to enable the reader to draw his/her own conclusions and thereby judge the validity of the conclusions drawn by the author</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the conclusions drawn justified by the evidence provid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the method of investigation appropriate or flaw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the investigators aware of other similar contributions in the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06DA-8B30-488D-9DF5-41F562041D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research?</a:t>
            </a:r>
            <a:endParaRPr b="0" lang="en-US" sz="3600" spc="-1" strike="noStrike">
              <a:solidFill>
                <a:srgbClr val="000000"/>
              </a:solidFill>
              <a:latin typeface="Arial"/>
            </a:endParaRPr>
          </a:p>
        </p:txBody>
      </p:sp>
      <p:sp>
        <p:nvSpPr>
          <p:cNvPr id="122"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systematic enquiry, which is reported in a form that allows the research methods and outcomes to be accessible to other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erned with seeking solutions to problems or answers to meaningful ques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eaningful</a:t>
            </a:r>
            <a:r>
              <a:rPr b="0" lang="en-GB" sz="2400" spc="-1" strike="noStrike">
                <a:solidFill>
                  <a:srgbClr val="000000"/>
                </a:solidFill>
                <a:latin typeface="Times New Roman"/>
              </a:rPr>
              <a:t> questions are expressed in a way that indicates what you will accept as an answ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on-meaningful</a:t>
            </a:r>
            <a:r>
              <a:rPr b="0" lang="en-GB" sz="2400" spc="-1" strike="noStrike">
                <a:solidFill>
                  <a:srgbClr val="000000"/>
                </a:solidFill>
                <a:latin typeface="Times New Roman"/>
              </a:rPr>
              <a:t> (in research terms) questions are not answerable as a result of enquiry alone (eg judgemental or metaphysical ques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ism versus phenoma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22">
                                            <p:txEl>
                                              <p:pRg st="1" end="1"/>
                                            </p:txEl>
                                          </p:spTgt>
                                        </p:tgtEl>
                                        <p:attrNameLst>
                                          <p:attrName>style.visibility</p:attrName>
                                        </p:attrNameLst>
                                      </p:cBhvr>
                                      <p:to>
                                        <p:strVal val="visible"/>
                                      </p:to>
                                    </p:set>
                                    <p:anim calcmode="lin" valueType="num">
                                      <p:cBhvr additive="base">
                                        <p:cTn id="1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22">
                                            <p:txEl>
                                              <p:pRg st="2" end="2"/>
                                            </p:txEl>
                                          </p:spTgt>
                                        </p:tgtEl>
                                        <p:attrNameLst>
                                          <p:attrName>style.visibility</p:attrName>
                                        </p:attrNameLst>
                                      </p:cBhvr>
                                      <p:to>
                                        <p:strVal val="visible"/>
                                      </p:to>
                                    </p:set>
                                    <p:anim calcmode="lin" valueType="num">
                                      <p:cBhvr additive="base">
                                        <p:cTn id="19"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22">
                                            <p:txEl>
                                              <p:pRg st="3" end="3"/>
                                            </p:txEl>
                                          </p:spTgt>
                                        </p:tgtEl>
                                        <p:attrNameLst>
                                          <p:attrName>style.visibility</p:attrName>
                                        </p:attrNameLst>
                                      </p:cBhvr>
                                      <p:to>
                                        <p:strVal val="visible"/>
                                      </p:to>
                                    </p:set>
                                    <p:anim calcmode="lin" valueType="num">
                                      <p:cBhvr additive="base">
                                        <p:cTn id="2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22">
                                            <p:txEl>
                                              <p:pRg st="4" end="4"/>
                                            </p:txEl>
                                          </p:spTgt>
                                        </p:tgtEl>
                                        <p:attrNameLst>
                                          <p:attrName>style.visibility</p:attrName>
                                        </p:attrNameLst>
                                      </p:cBhvr>
                                      <p:to>
                                        <p:strVal val="visible"/>
                                      </p:to>
                                    </p:set>
                                    <p:anim calcmode="lin" valueType="num">
                                      <p:cBhvr additive="base">
                                        <p:cTn id="31"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8011-2E84-404F-8C55-0042B451CB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e of research - positivist </a:t>
            </a:r>
            <a:endParaRPr b="0" lang="en-US" sz="3600" spc="-1" strike="noStrike">
              <a:solidFill>
                <a:srgbClr val="000000"/>
              </a:solidFill>
              <a:latin typeface="Arial"/>
            </a:endParaRPr>
          </a:p>
        </p:txBody>
      </p:sp>
      <p:sp>
        <p:nvSpPr>
          <p:cNvPr id="12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s with positive facts and observable phenomena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cribes to the ‘scientific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goal is not only description but prediction and expla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of substances and events, and observation of these, provide the basis for descriptive laws based on consistencies in patterns and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ed by absolute or varying degree of generalis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ative, as it draws on measurable evi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5EB5-B758-4F40-9CA9-9944219DF1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ostulates in Positivist Research</a:t>
            </a:r>
            <a:endParaRPr b="0" lang="en-US" sz="3600" spc="-1" strike="noStrike">
              <a:solidFill>
                <a:srgbClr val="000000"/>
              </a:solidFill>
              <a:latin typeface="Arial"/>
            </a:endParaRPr>
          </a:p>
        </p:txBody>
      </p:sp>
      <p:sp>
        <p:nvSpPr>
          <p:cNvPr id="13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natural kinds</a:t>
            </a:r>
            <a:r>
              <a:rPr b="0" lang="en-GB" sz="2400" spc="-1" strike="noStrike">
                <a:solidFill>
                  <a:srgbClr val="000000"/>
                </a:solidFill>
                <a:latin typeface="Times New Roman"/>
              </a:rPr>
              <a:t>: all instances of classes and categories of phenomena exhibit the same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constancy</a:t>
            </a:r>
            <a:r>
              <a:rPr b="0" lang="en-GB" sz="2400" spc="-1" strike="noStrike">
                <a:solidFill>
                  <a:srgbClr val="000000"/>
                </a:solidFill>
                <a:latin typeface="Times New Roman"/>
              </a:rPr>
              <a:t>: all phenomena remain the same or change only very slowly over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determinism</a:t>
            </a:r>
            <a:r>
              <a:rPr b="0" lang="en-GB" sz="2400" spc="-1" strike="noStrike">
                <a:solidFill>
                  <a:srgbClr val="000000"/>
                </a:solidFill>
                <a:latin typeface="Times New Roman"/>
              </a:rPr>
              <a:t>: there is orderliness and regularity in nature, constancy in terms of cause and effe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B7F7-DDEE-4FC9-96A3-6D0997BBAD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is session….</a:t>
            </a:r>
            <a:endParaRPr b="0" lang="en-US" sz="3600" spc="-1" strike="noStrike">
              <a:solidFill>
                <a:srgbClr val="000000"/>
              </a:solidFill>
              <a:latin typeface="Arial"/>
            </a:endParaRPr>
          </a:p>
        </p:txBody>
      </p:sp>
      <p:sp>
        <p:nvSpPr>
          <p:cNvPr id="5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need th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lin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terature review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e of rese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naire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investig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F453-0DD7-4D29-BA8D-7979911B4E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e of research - phenomenalist</a:t>
            </a:r>
            <a:endParaRPr b="0" lang="en-US" sz="3600" spc="-1" strike="noStrike">
              <a:solidFill>
                <a:srgbClr val="000000"/>
              </a:solidFill>
              <a:latin typeface="Arial"/>
            </a:endParaRPr>
          </a:p>
        </p:txBody>
      </p:sp>
      <p:sp>
        <p:nvSpPr>
          <p:cNvPr id="13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s that each phenomena is unique and is controlled by variables such as time, location and 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wo situations are identi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reliance on postulates of natural kinds, constancy or determinis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sentially subjective, where the content of research and the way it is pursued is indicative of researchers inten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comes are descriptions which are expressed in narrative and mainly in qualitative te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2"/>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C921-8648-458E-A80E-243268484F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ockholm archipelago</a:t>
            </a:r>
            <a:endParaRPr b="0" lang="en-US" sz="3600" spc="-1" strike="noStrike">
              <a:solidFill>
                <a:srgbClr val="000000"/>
              </a:solidFill>
              <a:latin typeface="Arial"/>
            </a:endParaRPr>
          </a:p>
        </p:txBody>
      </p:sp>
      <p:pic>
        <p:nvPicPr>
          <p:cNvPr id="138" name="Picture 4" descr="C:\user\msccomputing\farled.jpg"/>
          <p:cNvPicPr/>
          <p:nvPr/>
        </p:nvPicPr>
        <p:blipFill>
          <a:blip r:embed="rId1"/>
          <a:stretch/>
        </p:blipFill>
        <p:spPr>
          <a:xfrm>
            <a:off x="685800" y="2514600"/>
            <a:ext cx="7848720" cy="233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99E8-7A39-4C14-814D-F5A2479519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both approaches…</a:t>
            </a:r>
            <a:endParaRPr b="0" lang="en-US" sz="3600" spc="-1" strike="noStrike">
              <a:solidFill>
                <a:srgbClr val="000000"/>
              </a:solidFill>
              <a:latin typeface="Arial"/>
            </a:endParaRPr>
          </a:p>
        </p:txBody>
      </p:sp>
      <p:sp>
        <p:nvSpPr>
          <p:cNvPr id="142" name="PlaceHolder 2"/>
          <p:cNvSpPr>
            <a:spLocks noGrp="1"/>
          </p:cNvSpPr>
          <p:nvPr>
            <p:ph/>
          </p:nvPr>
        </p:nvSpPr>
        <p:spPr>
          <a:xfrm>
            <a:off x="685800" y="1676520"/>
            <a:ext cx="7772400" cy="4419360"/>
          </a:xfrm>
          <a:prstGeom prst="rect">
            <a:avLst/>
          </a:prstGeom>
          <a:noFill/>
          <a:ln w="0">
            <a:noFill/>
          </a:ln>
        </p:spPr>
        <p:txBody>
          <a:bodyPr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the study of critical incidents (as opposed to accidents) in marine navigation in the Stockholm archipelago provide the basis for improvements in sea safety in the area? </a:t>
            </a:r>
            <a:endParaRPr b="0" lang="en-US" sz="2400" spc="-1" strike="noStrike">
              <a:solidFill>
                <a:srgbClr val="000000"/>
              </a:solidFill>
              <a:latin typeface="Times New Roman"/>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ist approach: collect data via interview, classify types of incidents, produce analyses, make recommendations based on analysis</a:t>
            </a:r>
            <a:endParaRPr b="0" lang="en-US" sz="2400" spc="-1" strike="noStrike">
              <a:solidFill>
                <a:srgbClr val="000000"/>
              </a:solidFill>
              <a:latin typeface="Times New Roman"/>
            </a:endParaRPr>
          </a:p>
          <a:p>
            <a:pPr marL="387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enominalist approach: analyse interviews in depth, seek to draw conclusions about caus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1" name="whoosh.wav"/>
                                        </p:tgtEl>
                                      </p:cMediaNode>
                                    </p:audio>
                                    <p:set>
                                      <p:cBhvr>
                                        <p:cTn id="38" dur="1" fill="hold">
                                          <p:stCondLst>
                                            <p:cond delay="0"/>
                                          </p:stCondLst>
                                        </p:cTn>
                                        <p:tgtEl>
                                          <p:spTgt spid="142">
                                            <p:txEl>
                                              <p:pRg st="0" end="0"/>
                                            </p:txEl>
                                          </p:spTgt>
                                        </p:tgtEl>
                                        <p:attrNameLst>
                                          <p:attrName>style.visibility</p:attrName>
                                        </p:attrNameLst>
                                      </p:cBhvr>
                                      <p:to>
                                        <p:strVal val="visible"/>
                                      </p:to>
                                    </p:set>
                                    <p:anim calcmode="lin" valueType="num">
                                      <p:cBhvr additive="base">
                                        <p:cTn id="3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2" name="whoosh.wav"/>
                                        </p:tgtEl>
                                      </p:cMediaNode>
                                    </p:audio>
                                    <p:set>
                                      <p:cBhvr>
                                        <p:cTn id="44" dur="1" fill="hold">
                                          <p:stCondLst>
                                            <p:cond delay="0"/>
                                          </p:stCondLst>
                                        </p:cTn>
                                        <p:tgtEl>
                                          <p:spTgt spid="142">
                                            <p:txEl>
                                              <p:pRg st="2" end="2"/>
                                            </p:txEl>
                                          </p:spTgt>
                                        </p:tgtEl>
                                        <p:attrNameLst>
                                          <p:attrName>style.visibility</p:attrName>
                                        </p:attrNameLst>
                                      </p:cBhvr>
                                      <p:to>
                                        <p:strVal val="visible"/>
                                      </p:to>
                                    </p:set>
                                    <p:anim calcmode="lin" valueType="num">
                                      <p:cBhvr additive="base">
                                        <p:cTn id="4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3" name="whoosh.wav"/>
                                        </p:tgtEl>
                                      </p:cMediaNode>
                                    </p:audio>
                                    <p:set>
                                      <p:cBhvr>
                                        <p:cTn id="50" dur="1" fill="hold">
                                          <p:stCondLst>
                                            <p:cond delay="0"/>
                                          </p:stCondLst>
                                        </p:cTn>
                                        <p:tgtEl>
                                          <p:spTgt spid="142">
                                            <p:txEl>
                                              <p:pRg st="4" end="4"/>
                                            </p:txEl>
                                          </p:spTgt>
                                        </p:tgtEl>
                                        <p:attrNameLst>
                                          <p:attrName>style.visibility</p:attrName>
                                        </p:attrNameLst>
                                      </p:cBhvr>
                                      <p:to>
                                        <p:strVal val="visible"/>
                                      </p:to>
                                    </p:set>
                                    <p:anim calcmode="lin" valueType="num">
                                      <p:cBhvr additive="base">
                                        <p:cTn id="5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27F6-9488-46D4-AF26-DAB2B3E3D2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ositivist research methods include...</a:t>
            </a:r>
            <a:endParaRPr b="0" lang="en-US" sz="3600" spc="-1" strike="noStrike">
              <a:solidFill>
                <a:srgbClr val="000000"/>
              </a:solidFill>
              <a:latin typeface="Arial"/>
            </a:endParaRPr>
          </a:p>
        </p:txBody>
      </p:sp>
      <p:sp>
        <p:nvSpPr>
          <p:cNvPr id="14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criptive resear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thing that is variable, varies to a defined degree, and thus can be measur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veys, case studies, causal comparative studies, correlational studies, developmental studies, trend stud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erimental resear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iberate manipulation of certain factors under highly controlled condi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pose is to identify causal connections through keeping the levels of some variables constant and manipulating ot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46F2-2910-4097-B9D9-BA004C6A8F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Questionnaire design</a:t>
            </a:r>
            <a:endParaRPr b="0" lang="en-US" sz="3600" spc="-1" strike="noStrike">
              <a:solidFill>
                <a:srgbClr val="000000"/>
              </a:solidFill>
              <a:latin typeface="Arial"/>
            </a:endParaRPr>
          </a:p>
        </p:txBody>
      </p:sp>
      <p:sp>
        <p:nvSpPr>
          <p:cNvPr id="1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vant to requirements gathering for, and evaluation of, pro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f study pack by Arthur Rothwell cov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 and logistics of questionnaire desig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out issu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of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s of question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BF03-F908-471C-832D-FB7B7985D3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440" y="304920"/>
            <a:ext cx="8077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ning and logistics of questionnaire design</a:t>
            </a:r>
            <a:endParaRPr b="0" lang="en-US" sz="3600" spc="-1" strike="noStrike">
              <a:solidFill>
                <a:srgbClr val="000000"/>
              </a:solidFill>
              <a:latin typeface="Arial"/>
            </a:endParaRPr>
          </a:p>
        </p:txBody>
      </p:sp>
      <p:sp>
        <p:nvSpPr>
          <p:cNvPr id="15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ative or qualitativ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requirements: the Data Protection A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tiality and anonym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nteer respond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subject are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appropriate lengt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time sca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components of questionnai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3BF0-CAA8-43AC-ACDA-B2B9C488AB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s of question</a:t>
            </a:r>
            <a:endParaRPr b="0" lang="en-US" sz="3600" spc="-1" strike="noStrike">
              <a:solidFill>
                <a:srgbClr val="000000"/>
              </a:solidFill>
              <a:latin typeface="Arial"/>
            </a:endParaRPr>
          </a:p>
        </p:txBody>
      </p:sp>
      <p:sp>
        <p:nvSpPr>
          <p:cNvPr id="15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nd closed ques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hotomous i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d i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point or no mid-poi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king to show pre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6948-CC1A-4D2A-9C65-FBF91A8D23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 of items</a:t>
            </a:r>
            <a:endParaRPr b="0" lang="en-US" sz="3600" spc="-1" strike="noStrike">
              <a:solidFill>
                <a:srgbClr val="000000"/>
              </a:solidFill>
              <a:latin typeface="Arial"/>
            </a:endParaRPr>
          </a:p>
        </p:txBody>
      </p:sp>
      <p:sp>
        <p:nvSpPr>
          <p:cNvPr id="16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response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of attitu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ypes of faulty i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ing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effe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barelled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gue and ambiguous terminolog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assum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desirability</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D1D7-92A9-4133-B177-6FBBF22838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440" y="304920"/>
            <a:ext cx="79246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ing questions and context effects</a:t>
            </a:r>
            <a:endParaRPr b="0" lang="en-US" sz="3600" spc="-1" strike="noStrike">
              <a:solidFill>
                <a:srgbClr val="000000"/>
              </a:solidFill>
              <a:latin typeface="Arial"/>
            </a:endParaRPr>
          </a:p>
        </p:txBody>
      </p:sp>
      <p:sp>
        <p:nvSpPr>
          <p:cNvPr id="16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you agree that the governments policies on health are unfa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 wordings should not contain value judg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many pints of beer did you drink last 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how the context of the study would affect the response, say in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of young peoples life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of health behaviour and heart dise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2FE8-3973-4C58-88C5-404BEC041C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 barreled questions</a:t>
            </a:r>
            <a:endParaRPr b="0" lang="en-US" sz="3600" spc="-1" strike="noStrike">
              <a:solidFill>
                <a:srgbClr val="000000"/>
              </a:solidFill>
              <a:latin typeface="Arial"/>
            </a:endParaRPr>
          </a:p>
        </p:txBody>
      </p:sp>
      <p:sp>
        <p:nvSpPr>
          <p:cNvPr id="17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you believe the training programme was a good one and effective in teaching you new ski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questions that involve multiple prem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D198-A8AC-460E-89E9-53B1DB9CC6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y do you need this…?</a:t>
            </a:r>
            <a:endParaRPr b="0" lang="en-US" sz="3600" spc="-1" strike="noStrike">
              <a:solidFill>
                <a:srgbClr val="000000"/>
              </a:solidFill>
              <a:latin typeface="Arial"/>
            </a:endParaRPr>
          </a:p>
        </p:txBody>
      </p:sp>
      <p:sp>
        <p:nvSpPr>
          <p:cNvPr id="5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understand content of directed reading within taught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write essays or reviews of published litera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plan and conduct your project where there is an element of research in the investigation or the evaluation of what you have d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0042-ABEE-449A-B84C-0A17F2C9E7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gue and ambiguous terminology</a:t>
            </a:r>
            <a:endParaRPr b="0" lang="en-US" sz="3600" spc="-1" strike="noStrike">
              <a:solidFill>
                <a:srgbClr val="000000"/>
              </a:solidFill>
              <a:latin typeface="Arial"/>
            </a:endParaRPr>
          </a:p>
        </p:txBody>
      </p:sp>
      <p:sp>
        <p:nvSpPr>
          <p:cNvPr id="17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often do you clean your tee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equen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ft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frequen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v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frequently’ me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quantifiers to ensure all respondents understand the same thing by the response categ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4136-8487-4272-9415-B679B4D342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04920"/>
            <a:ext cx="83059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dden assumptions, social desirability</a:t>
            </a:r>
            <a:endParaRPr b="0" lang="en-US" sz="3600" spc="-1" strike="noStrike">
              <a:solidFill>
                <a:srgbClr val="000000"/>
              </a:solidFill>
              <a:latin typeface="Arial"/>
            </a:endParaRPr>
          </a:p>
        </p:txBody>
      </p:sp>
      <p:sp>
        <p:nvSpPr>
          <p:cNvPr id="17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did you last borrow a video ta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hidden assumptions - what are the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you ever give to ch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lead to a positive response as otherwise something negative about the respondent is being conve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39EF-D86E-4504-A729-EA260E8735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uctured Investigations - 1</a:t>
            </a:r>
            <a:endParaRPr b="0" lang="en-US" sz="3600" spc="-1" strike="noStrike">
              <a:solidFill>
                <a:srgbClr val="000000"/>
              </a:solidFill>
              <a:latin typeface="Arial"/>
            </a:endParaRPr>
          </a:p>
        </p:txBody>
      </p:sp>
      <p:sp>
        <p:nvSpPr>
          <p:cNvPr id="18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MSc project has produced a computer-based tool to teach letters of the alphabet to nursery level childr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lk to the person next to you and discuss how you would demonstrate the effectiveness of the tool through some form of structured investig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the resources required and the feasibility of conducting the study within a 3-month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0297-CBFA-482D-88BC-0E7D411092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ys of approaching this….</a:t>
            </a:r>
            <a:endParaRPr b="0" lang="en-US" sz="3600" spc="-1" strike="noStrike">
              <a:solidFill>
                <a:srgbClr val="000000"/>
              </a:solidFill>
              <a:latin typeface="Arial"/>
            </a:endParaRPr>
          </a:p>
        </p:txBody>
      </p:sp>
      <p:sp>
        <p:nvSpPr>
          <p:cNvPr id="18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ccess to people with expertise and, hopefully, a group of nursery childr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 needs to be tested, and has to be ready in time for this to happ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ive assessment by teachers comparing the tool wi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computer based too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per-based metho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ive approach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and after letter recognition tests with two matched groups of childr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 of non-parametric statistical techn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0383-D666-49F3-9C68-F837E2AFEE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uctured Investigations - 2</a:t>
            </a:r>
            <a:endParaRPr b="0" lang="en-US" sz="3600" spc="-1" strike="noStrike">
              <a:solidFill>
                <a:srgbClr val="000000"/>
              </a:solidFill>
              <a:latin typeface="Arial"/>
            </a:endParaRPr>
          </a:p>
        </p:txBody>
      </p:sp>
      <p:sp>
        <p:nvSpPr>
          <p:cNvPr id="190"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oject has produced a web-based presentation of a college offering educational courses both as a 2D collection of pictures of the building, and as a 3D virtual building which you can ‘walk through’</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ould you compare the relative efficiencies of each approach?</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 discuss with the person next to you</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at you are trying to asses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carry out the assess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7E06-45BF-4391-A894-26BDD3582D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ys of approaching this….</a:t>
            </a:r>
            <a:endParaRPr b="0" lang="en-US" sz="3600" spc="-1" strike="noStrike">
              <a:solidFill>
                <a:srgbClr val="000000"/>
              </a:solidFill>
              <a:latin typeface="Arial"/>
            </a:endParaRPr>
          </a:p>
        </p:txBody>
      </p:sp>
      <p:sp>
        <p:nvSpPr>
          <p:cNvPr id="19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to ass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much information a visitor to the site obtains with each type of pres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ability issues – e.g ease of navigation through the representations of the college build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assess thi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structured user trials, where the amount of building explored is recor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uctured user trials, where a task is given to find pieces of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jective assessment of visit by particip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served usability probl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14F7-82A1-4A7E-86CD-41705F4637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brary student study skills books…</a:t>
            </a:r>
            <a:endParaRPr b="0" lang="en-US" sz="3600" spc="-1" strike="noStrike">
              <a:solidFill>
                <a:srgbClr val="000000"/>
              </a:solidFill>
              <a:latin typeface="Arial"/>
            </a:endParaRPr>
          </a:p>
        </p:txBody>
      </p:sp>
      <p:sp>
        <p:nvSpPr>
          <p:cNvPr id="6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ff"/>
                </a:solidFill>
                <a:uFillTx/>
                <a:latin typeface="Times New Roman"/>
                <a:hlinkClick r:id="rId1"/>
              </a:rPr>
              <a:t>http://www.library.dmu.ac.uk/Skills/Stud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ection of self study books relevant to research and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available in .pdf or .html format (free downlo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ies includ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arch Metho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igning a questionnai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Citation and Contro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sertation preparation and present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arch interview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lanning a sample surve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nking it through: an introduction to critical thin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3586-F625-4379-8805-353A940802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Sc projects</a:t>
            </a:r>
            <a:endParaRPr b="0" lang="en-US" sz="3600" spc="-1" strike="noStrike">
              <a:solidFill>
                <a:srgbClr val="000000"/>
              </a:solidFill>
              <a:latin typeface="Arial"/>
            </a:endParaRPr>
          </a:p>
        </p:txBody>
      </p:sp>
      <p:sp>
        <p:nvSpPr>
          <p:cNvPr id="6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projects are required to have at least one academic objective, usually an investigation of literature relevant to some aspect of your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projects will include some form of evalu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the production of a computer-based tool to teach letters of the alphabet to nursery level childr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iece of software which purports to do this will be of limited value without some evidence of how effective it is in doing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monstrating its effectiveness requires a structured stu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B0CE-4BF2-4E60-8278-E65DC63DA7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ject Skills…</a:t>
            </a:r>
            <a:endParaRPr b="0" lang="en-US" sz="3600" spc="-1" strike="noStrike">
              <a:solidFill>
                <a:srgbClr val="000000"/>
              </a:solidFill>
              <a:latin typeface="Arial"/>
            </a:endParaRPr>
          </a:p>
        </p:txBody>
      </p:sp>
      <p:sp>
        <p:nvSpPr>
          <p:cNvPr id="71"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non-assessed module in the second semester, which cov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al time manag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manag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Se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ritten and verbal 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ing demonstr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arning Strateg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0AF0-318A-4C37-834B-410741C87C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terature reviews</a:t>
            </a:r>
            <a:endParaRPr b="0" lang="en-US" sz="3600" spc="-1" strike="noStrike">
              <a:solidFill>
                <a:srgbClr val="000000"/>
              </a:solidFill>
              <a:latin typeface="Arial"/>
            </a:endParaRPr>
          </a:p>
        </p:txBody>
      </p:sp>
      <p:sp>
        <p:nvSpPr>
          <p:cNvPr id="7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ducted to ensure a researcher is familiar with ‘all’ of the what is known about a particular fie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ten published in order to bring other researchers (and MSc students) up to speed quickly in an unfamiliar fie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ave the scope of the review carefully defin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too big such that adequate coverage is infeasible, and there is too much literature to review and the review becomes unfocussed (and thereby not usefu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too narrow such that there are too few papers to includ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DD90-CD63-4867-894C-5DF7CE9F45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m of a literature review…</a:t>
            </a:r>
            <a:endParaRPr b="0" lang="en-US" sz="3600" spc="-1" strike="noStrike">
              <a:solidFill>
                <a:srgbClr val="000000"/>
              </a:solidFill>
              <a:latin typeface="Arial"/>
            </a:endParaRPr>
          </a:p>
        </p:txBody>
      </p:sp>
      <p:sp>
        <p:nvSpPr>
          <p:cNvPr id="7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reading literature from a variety of sour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ming some form of taxonomy or structure for your revie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dentifying where in your taxonomy the various contributions from the literature f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ritically</a:t>
            </a:r>
            <a:r>
              <a:rPr b="0" lang="en-GB" sz="2400" spc="-1" strike="noStrike">
                <a:solidFill>
                  <a:srgbClr val="000000"/>
                </a:solidFill>
                <a:latin typeface="Times New Roman"/>
              </a:rPr>
              <a:t> reviewing the literatur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dentifying different approaches, contradictions between contributions, analysis of strengths and weaknes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simply pasting quotes from different paper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wing your own conclusions, particularly concerning completeness of cover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light implications for your work (if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BC5B-3CC5-45D3-8723-3FF23CFFA6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8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 gains in the performance of 3D graphics hardware and rendering systems have not been matched by a corresponding improve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n our knowledge of how to interact with the virtual environments we create; therefore there is a need to examine these further if we are to improve the overall quality of our interactive 3D systems. This paper examines some of the interaction techniques which have been developed for object manipulation, navigation and application control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2:23:54Z</dcterms:created>
  <dc:creator>Istance</dc:creator>
  <dc:description/>
  <dc:language>en-US</dc:language>
  <cp:lastModifiedBy>farhad</cp:lastModifiedBy>
  <dcterms:modified xsi:type="dcterms:W3CDTF">2011-12-04T04:26:27Z</dcterms:modified>
  <cp:revision>24</cp:revision>
  <dc:subject/>
  <dc:title>Research Methods</dc:title>
</cp:coreProperties>
</file>